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087-92D6-4B92-8C2F-9E8FFF44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63F-179C-4D58-92C8-A0760C9C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93B-99B9-4E12-8D03-03F3A51E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AB4-37EA-4CA2-BFF1-2AF40178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1C7-8BA6-4067-A729-BD97038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9E4-75F5-4B7F-A053-B765AD23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CF4-9681-4DC7-8C4F-38F7DDB1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6AA-C6E9-4B40-96EA-E97E1F3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222-9B84-4C31-A6F9-2D959EF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C38-5C99-4F89-AC0E-7D6E5A5D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DF2-A6E7-4B2D-8904-C82E0724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A68-FA83-4F95-B1A2-3FA23D6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AEE0-C089-4921-AF26-2F5E7F045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/Impact Matri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96920" y="1338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97200" y="6062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rot="16200000">
            <a:off x="-698760" y="2905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4280" y="464832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2240" y="3505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1320" y="1752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88040" y="560556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14760" y="56386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94440" y="56055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6668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172200" y="13712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886200" y="13712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11480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5638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2952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8077320" y="1294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59840" y="1447920"/>
            <a:ext cx="9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2400" y="14479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26120" y="144792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22880" y="2895480"/>
            <a:ext cx="11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2400" y="2895480"/>
            <a:ext cx="9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2880" y="4267080"/>
            <a:ext cx="11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56600" y="4343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2:32:01Z</dcterms:created>
  <dc:creator>IT Department</dc:creator>
  <dc:description/>
  <dc:language>en-US</dc:language>
  <cp:lastModifiedBy>schwalbe</cp:lastModifiedBy>
  <dcterms:modified xsi:type="dcterms:W3CDTF">2005-10-14T18:48:56Z</dcterms:modified>
  <cp:revision>11</cp:revision>
  <dc:subject/>
  <dc:title>Figure 10-3. Probability/Impact Matrix</dc:title>
</cp:coreProperties>
</file>